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29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17.wmf" ContentType="image/x-wmf"/>
  <Override PartName="/ppt/media/image9.png" ContentType="image/png"/>
  <Override PartName="/ppt/media/image10.wmf" ContentType="image/x-wmf"/>
  <Override PartName="/ppt/media/image25.png" ContentType="image/png"/>
  <Override PartName="/ppt/media/image13.png" ContentType="image/png"/>
  <Override PartName="/ppt/media/image30.wmf" ContentType="image/x-wmf"/>
  <Override PartName="/ppt/media/image4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5A8-9BFF-4B90-842F-E10B0092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637-EAA5-47E5-AA64-B8CC2C2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F4D-4CD4-4EBE-AC59-3D3910B0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AD6-E5DF-4E68-8A25-A2075B2A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57F-971C-4D2E-A2B9-62730A5E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620-1C33-4A35-B3E0-80140EA3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127-4408-4928-B981-7403BE5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5C1-8F33-487B-A822-D7150D3D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39A-1A79-4BDD-B777-9C59CDFC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432-8BF8-4523-ACF0-6360076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92B-18FB-4CED-B802-BC768326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337-4853-4AE3-B87B-78B1978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46A4-6DBF-4DA9-B4B9-E11C99A71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ocities.com/bioelectrochemistry/coulomb.htm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lessons.com/exp21b.htm" TargetMode="External"/><Relationship Id="rId2" Type="http://schemas.openxmlformats.org/officeDocument/2006/relationships/hyperlink" Target="http://www.physicslessons.com/exp20b.ht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deafinder.com/history/inventors/volta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-groups.dcs.st-and.ac.uk/~history/Mathematicians/Ampere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library.thinkquest.org/22254/home.htm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hyperphysics.phy-astr.gsu.edu/hbase/electric/watcir.html" TargetMode="External"/><Relationship Id="rId2" Type="http://schemas.openxmlformats.org/officeDocument/2006/relationships/hyperlink" Target="http://webhw.unca.edu/bennett_phys222/Content/labs/multimeter/simple_circuit.asp" TargetMode="External"/><Relationship Id="rId3" Type="http://schemas.openxmlformats.org/officeDocument/2006/relationships/hyperlink" Target="http://fie.engrng.pitt.edu/fie95/2b4/2b43/2b43.htm" TargetMode="External"/><Relationship Id="rId4" Type="http://schemas.openxmlformats.org/officeDocument/2006/relationships/hyperlink" Target="http://www.coe.uga.edu/edpsych/faculty/glynn/twa.html" TargetMode="External"/><Relationship Id="rId5" Type="http://schemas.openxmlformats.org/officeDocument/2006/relationships/hyperlink" Target="http://lrs.ed.uiuc.edu/students/fretzin/EPL11q5Metaphors.htm" TargetMode="External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-groups.dcs.st-andrews.ac.uk/~history/Mathematicians/Ohm.html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he12volt.com/resistors/resistors.asp#calc" TargetMode="External"/><Relationship Id="rId2" Type="http://schemas.openxmlformats.org/officeDocument/2006/relationships/hyperlink" Target="http://www.micro.magnet.fsu.edu/electromag/java/resistor/index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icro.magnet.fsu.edu/electromag/java/ohmslaw/index.html" TargetMode="External"/><Relationship Id="rId2" Type="http://schemas.openxmlformats.org/officeDocument/2006/relationships/hyperlink" Target="http://jersey.uoregon.edu/vlab/Voltage/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ea.siemens.com/training/step2000/courses/electricity/circuits/series.htm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sea.siemens.com/training/step2000/courses/electricity/circuits/parallel.htm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lectron9.phys.utk.edu/phys136d/modules/m6/kirchhoff.htm" TargetMode="External"/><Relationship Id="rId2" Type="http://schemas.openxmlformats.org/officeDocument/2006/relationships/hyperlink" Target="http://www2.ignatius.edu/faculty/decarlo/kirchhoff.htm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glenbrook.k12.il.us/gbssci/phys/Class/estatics/u8l1c.html" TargetMode="External"/><Relationship Id="rId3" Type="http://schemas.openxmlformats.org/officeDocument/2006/relationships/hyperlink" Target="http://www.glenbrook.k12.il.us/gbssci/phys/Class/estatics/u8l1d.html" TargetMode="External"/><Relationship Id="rId4" Type="http://schemas.openxmlformats.org/officeDocument/2006/relationships/hyperlink" Target="http://www.glenbrook.k12.il.us/gbssci/phys/Class/estatics/u8l1d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ysics.weber.edu/amiri/director/dcrfiles/electricity/pithBallS.dcr" TargetMode="External"/><Relationship Id="rId2" Type="http://schemas.openxmlformats.org/officeDocument/2006/relationships/hyperlink" Target="http://demoroom.physics.ncsu.edu/multimedia/video/5A20.20.1.MOV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statics/u8l2a.html" TargetMode="External"/><Relationship Id="rId2" Type="http://schemas.openxmlformats.org/officeDocument/2006/relationships/hyperlink" Target="http://regentsprep.org/Regents/physics/phys03/aeleclab/ballrub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p.net/resources/curricular/physics/P30/Unit2/electroscope.html" TargetMode="External"/><Relationship Id="rId2" Type="http://schemas.openxmlformats.org/officeDocument/2006/relationships/hyperlink" Target="http://regentsprep.org/Regents/physics/phys03/aeleclab/nerscope.htm" TargetMode="External"/><Relationship Id="rId3" Type="http://schemas.openxmlformats.org/officeDocument/2006/relationships/hyperlink" Target="http://regentsprep.org/Regents/physics/phys03/aeleclab/escope.htm" TargetMode="External"/><Relationship Id="rId4" Type="http://schemas.openxmlformats.org/officeDocument/2006/relationships/hyperlink" Target="http://regentsprep.org/Regents/physics/phys03/aeleclab/induct.htm" TargetMode="External"/><Relationship Id="rId5" Type="http://schemas.openxmlformats.org/officeDocument/2006/relationships/hyperlink" Target="http://online.cctt.org/physicslab/content/phyapb/lessonnotes/electrostatics/lessonelectrostatics.asp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colorado.edu/physics/2000/waves_particles/wavpart2.html" TargetMode="External"/><Relationship Id="rId3" Type="http://schemas.openxmlformats.org/officeDocument/2006/relationships/hyperlink" Target="http://ppp.unipv.it/Coulomb/Pages/ePage0.html" TargetMode="External"/><Relationship Id="rId4" Type="http://schemas.openxmlformats.org/officeDocument/2006/relationships/hyperlink" Target="http://aa.uncw.edu/digilib/physics/x_physlets_01/physletprob/ch4_tour/4.1.tour_7.html" TargetMode="External"/><Relationship Id="rId5" Type="http://schemas.openxmlformats.org/officeDocument/2006/relationships/hyperlink" Target="http://physics.bu.edu/~duffy/PY106/Coulomb.html" TargetMode="External"/><Relationship Id="rId6" Type="http://schemas.openxmlformats.org/officeDocument/2006/relationships/hyperlink" Target="http://www.ac.wwu.edu/~vawter/PhysicsNet/QTMovies/ElectricForce/CoulombLawMain.html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52480" y="914400"/>
            <a:ext cx="5562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NUINE"/>
              </a:rPr>
              <a:t>Static and Current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NUINE"/>
              <a:ea typeface="GENUIN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NUINE"/>
              </a:rPr>
              <a:t>Electricity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NUINE"/>
              <a:ea typeface="GENUINE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1166760" cy="17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7086600" y="3429000"/>
          <a:ext cx="14479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429000"/>
                    <a:ext cx="1447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7620120" y="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5"/>
          <a:stretch/>
        </p:blipFill>
        <p:spPr>
          <a:xfrm>
            <a:off x="0" y="0"/>
            <a:ext cx="1512720" cy="132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6"/>
          <a:stretch/>
        </p:blipFill>
        <p:spPr>
          <a:xfrm>
            <a:off x="2630520" y="4572000"/>
            <a:ext cx="3817800" cy="2131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7"/>
          <p:cNvSpPr/>
          <p:nvPr/>
        </p:nvSpPr>
        <p:spPr>
          <a:xfrm>
            <a:off x="2590920" y="6400800"/>
            <a:ext cx="388620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1171440"/>
            <a:ext cx="4591080" cy="184788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520640" y="152280"/>
            <a:ext cx="6217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Optimum"/>
              </a:rPr>
              <a:t>In equation form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609280" y="1341360"/>
            <a:ext cx="744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90760" y="1332000"/>
            <a:ext cx="8510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79760" y="3108240"/>
            <a:ext cx="79146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force of attrac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measured in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WT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charges 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31280" y="1341360"/>
            <a:ext cx="694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17760" y="3946680"/>
            <a:ext cx="7759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niversal Electrostatic Consta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equal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9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9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/coul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749680" y="4578480"/>
            <a:ext cx="63360" cy="63360"/>
          </a:xfrm>
          <a:custGeom>
            <a:avLst/>
            <a:gdLst>
              <a:gd name="textAreaLeft" fmla="*/ 14400 w 63360"/>
              <a:gd name="textAreaRight" fmla="*/ 48960 w 63360"/>
              <a:gd name="textAreaTop" fmla="*/ 14400 h 63360"/>
              <a:gd name="textAreaBottom" fmla="*/ 48960 h 6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878720" y="1027080"/>
            <a:ext cx="894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1" lang="en-US" sz="66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5716800" y="1027080"/>
            <a:ext cx="894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1" lang="en-US" sz="6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590760" y="4861080"/>
            <a:ext cx="76575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re th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ttracting charg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measur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ul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259600" y="2093760"/>
            <a:ext cx="8949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en-US" sz="6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76920" y="213372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612720" y="5724360"/>
            <a:ext cx="610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stance between the charg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is measured in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2857680" y="723960"/>
            <a:ext cx="6172200" cy="2133720"/>
          </a:xfrm>
          <a:prstGeom prst="octagon">
            <a:avLst>
              <a:gd name="adj" fmla="val 29282"/>
            </a:avLst>
          </a:prstGeom>
          <a:solidFill>
            <a:srgbClr val="333399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228840" y="808200"/>
            <a:ext cx="53834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SI unit of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Coulomb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med in hono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harles Augustin Coulomb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243000" y="228600"/>
            <a:ext cx="2404800" cy="3276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304920" y="3848040"/>
            <a:ext cx="8534160" cy="2514600"/>
          </a:xfrm>
          <a:prstGeom prst="rect">
            <a:avLst/>
          </a:prstGeom>
          <a:solidFill>
            <a:srgbClr val="0066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32720" y="4008600"/>
            <a:ext cx="827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C = charge on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6.25 x 10</a:t>
            </a:r>
            <a:r>
              <a:rPr b="0" lang="en-US" sz="3200" spc="-1" strike="noStrike" baseline="30000">
                <a:solidFill>
                  <a:srgbClr val="ff99ff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ctrons (or pro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86960" y="4923000"/>
            <a:ext cx="736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1 e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1.60 x 10</a:t>
            </a:r>
            <a:r>
              <a:rPr b="0" lang="en-US" sz="3200" spc="-1" strike="noStrike" baseline="30000">
                <a:solidFill>
                  <a:srgbClr val="ff99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99ff"/>
                </a:solidFill>
                <a:latin typeface="Times New Roman"/>
              </a:rPr>
              <a:t>19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Coul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= elementary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16520" y="5805360"/>
            <a:ext cx="828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Electric force is a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ctor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and must be treated as s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973600" y="150840"/>
            <a:ext cx="3303000" cy="64116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Serpentine"/>
              </a:rPr>
              <a:t>Electric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44520" y="787320"/>
            <a:ext cx="6654960" cy="1397160"/>
          </a:xfrm>
          <a:prstGeom prst="rect">
            <a:avLst/>
          </a:prstGeom>
          <a:solidFill>
            <a:srgbClr val="ff0033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260000" y="852480"/>
            <a:ext cx="6625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 electric field exists in a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 space if a charge placed i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gion experiences an electric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68920" y="2560680"/>
            <a:ext cx="8501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magnitude of an electric field at 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iven point is defined to be the ratio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orce 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rge a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int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ount of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000680" y="3848040"/>
            <a:ext cx="4724280" cy="12956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892160" y="5587920"/>
            <a:ext cx="5359680" cy="939960"/>
          </a:xfrm>
          <a:prstGeom prst="octagon">
            <a:avLst>
              <a:gd name="adj" fmla="val 29282"/>
            </a:avLst>
          </a:prstGeom>
          <a:solidFill>
            <a:srgbClr val="00ffff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524120" y="3916440"/>
            <a:ext cx="3650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8000" spc="-1" strike="noStrike">
                <a:solidFill>
                  <a:srgbClr val="00ffff"/>
                </a:solidFill>
                <a:latin typeface="Comic Sans MS"/>
              </a:rPr>
              <a:t>F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8000" spc="-1" strike="noStrike">
                <a:solidFill>
                  <a:srgbClr val="00ffff"/>
                </a:solidFill>
                <a:latin typeface="Comic Sans MS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109600" y="5576760"/>
            <a:ext cx="4924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Electric field strength has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of Newtons/Coulomb (N/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41640" y="166680"/>
            <a:ext cx="85762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rec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f the electric fiel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t any point i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be the same direction as the </a:t>
            </a: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direction of force on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positive test char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laced in the region at that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398240" y="1690560"/>
            <a:ext cx="6570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Field line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int away from positive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and </a:t>
            </a: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toward negative charges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914400" y="2657520"/>
            <a:ext cx="7521480" cy="41990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762120" y="6248520"/>
            <a:ext cx="7924680" cy="608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66760" y="190440"/>
            <a:ext cx="8686800" cy="1295640"/>
          </a:xfrm>
          <a:prstGeom prst="rect">
            <a:avLst/>
          </a:prstGeom>
          <a:noFill/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295280" y="28954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876920" y="2819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3840" y="380880"/>
            <a:ext cx="914328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a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howing the magnitude and direction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force on a test charge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ced near other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30040" y="3429000"/>
            <a:ext cx="869832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to view a simulation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charged particle moving through a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ccupied by other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44440" y="30240"/>
            <a:ext cx="8747280" cy="702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Serpentine"/>
              </a:rPr>
              <a:t>Electric Potential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8160" y="647640"/>
            <a:ext cx="4800600" cy="1905120"/>
          </a:xfrm>
          <a:prstGeom prst="rightArrow">
            <a:avLst>
              <a:gd name="adj1" fmla="val 75009"/>
              <a:gd name="adj2" fmla="val 126004"/>
            </a:avLst>
          </a:prstGeom>
          <a:solidFill>
            <a:srgbClr val="cc00cc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928800"/>
            <a:ext cx="457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chang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lectric potenti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er unit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915080" y="1028880"/>
            <a:ext cx="4038480" cy="1143000"/>
          </a:xfrm>
          <a:prstGeom prst="rect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243040" y="1103400"/>
            <a:ext cx="33246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Comic Sans MS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333399"/>
                </a:solidFill>
                <a:latin typeface="Comic Sans MS"/>
              </a:rPr>
              <a:t>W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66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96720" y="2790720"/>
            <a:ext cx="5188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I unit of electric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erence is the </a:t>
            </a:r>
            <a:r>
              <a:rPr b="1" lang="en-US" sz="2800" spc="-1" strike="noStrike">
                <a:solidFill>
                  <a:srgbClr val="ff0033"/>
                </a:solidFill>
                <a:latin typeface="Serpentine"/>
              </a:rPr>
              <a:t>VO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nam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or of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Serpentine"/>
                <a:hlinkClick r:id="rId1"/>
              </a:rPr>
              <a:t>Alessandro Vol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6103800" y="2262240"/>
            <a:ext cx="1590840" cy="21240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9"/>
          <p:cNvSpPr/>
          <p:nvPr/>
        </p:nvSpPr>
        <p:spPr>
          <a:xfrm>
            <a:off x="254160" y="4443480"/>
            <a:ext cx="8635680" cy="2387520"/>
          </a:xfrm>
          <a:prstGeom prst="octagon">
            <a:avLst>
              <a:gd name="adj" fmla="val 29282"/>
            </a:avLst>
          </a:prstGeom>
          <a:solidFill>
            <a:srgbClr val="333399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33520" y="4505400"/>
            <a:ext cx="82296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e </a:t>
            </a:r>
            <a:r>
              <a:rPr b="0" lang="en-US" sz="2800" spc="-1" strike="noStrike">
                <a:solidFill>
                  <a:srgbClr val="ffff00"/>
                </a:solidFill>
                <a:latin typeface="Serpentine"/>
              </a:rPr>
              <a:t>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the </a:t>
            </a:r>
            <a:r>
              <a:rPr b="0" lang="en-US" sz="2800" spc="-1" strike="noStrike">
                <a:solidFill>
                  <a:srgbClr val="00ffff"/>
                </a:solidFill>
                <a:latin typeface="Serpentine"/>
              </a:rPr>
              <a:t>electric potential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tween two points when </a:t>
            </a:r>
            <a:r>
              <a:rPr b="0" lang="en-US" sz="2800" spc="-1" strike="noStrike">
                <a:solidFill>
                  <a:srgbClr val="99ff33"/>
                </a:solidFill>
                <a:latin typeface="Serpentine"/>
              </a:rPr>
              <a:t>one Jou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done in moving </a:t>
            </a:r>
            <a:r>
              <a:rPr b="0" lang="en-US" sz="2800" spc="-1" strike="noStrike">
                <a:solidFill>
                  <a:srgbClr val="ff9900"/>
                </a:solidFill>
                <a:latin typeface="Serpentine"/>
              </a:rPr>
              <a:t>one Coulom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tween the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52560"/>
            <a:ext cx="9142560" cy="680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3"/>
          <p:cNvGraphicFramePr/>
          <p:nvPr/>
        </p:nvGraphicFramePr>
        <p:xfrm>
          <a:off x="2738520" y="1163520"/>
          <a:ext cx="6086520" cy="135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38520" y="1163520"/>
                    <a:ext cx="6086520" cy="1351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9900"/>
                    </a:outerShdw>
                  </a:effectLst>
                </p:spPr>
              </p:pic>
            </p:oleObj>
          </a:graphicData>
        </a:graphic>
      </p:graphicFrame>
      <p:sp>
        <p:nvSpPr>
          <p:cNvPr id="150" name="Rectangle 4"/>
          <p:cNvSpPr/>
          <p:nvPr/>
        </p:nvSpPr>
        <p:spPr>
          <a:xfrm>
            <a:off x="2527200" y="2817720"/>
            <a:ext cx="6381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flow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rged particl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be positive or negati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 usually negative (electron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ough a conducting me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66600"/>
            <a:ext cx="9142560" cy="6715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3035160" y="379440"/>
            <a:ext cx="56440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lectric ce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a device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verts one form of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electrical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334960" y="2232000"/>
            <a:ext cx="6829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Chemical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cel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onvert chem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into electrical ener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640680" y="3579840"/>
            <a:ext cx="4360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cells can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t” or “dry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66600"/>
            <a:ext cx="9142560" cy="6715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3106080" y="351000"/>
            <a:ext cx="578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olar</a:t>
            </a:r>
            <a:r>
              <a:rPr b="1" lang="en-US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el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vert light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o electrical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774880" y="1569960"/>
            <a:ext cx="627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enerat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verts 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y into electrical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028320" y="2941560"/>
            <a:ext cx="580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batte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two or mor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ed in series or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210360" y="152280"/>
            <a:ext cx="2547720" cy="3814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419040" y="419040"/>
            <a:ext cx="5410440" cy="16765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84280" y="503280"/>
            <a:ext cx="512892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ic current is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333399"/>
                </a:solidFill>
                <a:latin typeface="Serpentine"/>
              </a:rPr>
              <a:t>Amper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in hono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dre Marie Amp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5560" y="2463840"/>
            <a:ext cx="6121080" cy="939600"/>
          </a:xfrm>
          <a:prstGeom prst="rect">
            <a:avLst/>
          </a:prstGeom>
          <a:solidFill>
            <a:srgbClr val="333399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-30600" y="2408400"/>
            <a:ext cx="63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Ampere is the fl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Coulomb of charge per secon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5943600" y="3657600"/>
            <a:ext cx="3048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723960" y="3924360"/>
            <a:ext cx="7848720" cy="1295280"/>
          </a:xfrm>
          <a:prstGeom prst="rect">
            <a:avLst/>
          </a:prstGeom>
          <a:solidFill>
            <a:srgbClr val="0099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729000" y="3992400"/>
            <a:ext cx="7914600" cy="1311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1 Amp = 1 Coulomb per sec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= 1 C/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2705040" y="5600880"/>
            <a:ext cx="3353040" cy="9903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042360" y="5621400"/>
            <a:ext cx="2567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33"/>
                </a:solidFill>
                <a:latin typeface="Comic Sans MS"/>
              </a:rPr>
              <a:t>I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6000" spc="-1" strike="noStrike">
                <a:solidFill>
                  <a:srgbClr val="009900"/>
                </a:solidFill>
                <a:latin typeface="Comic Sans MS"/>
              </a:rPr>
              <a:t>Q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5943600" y="76320"/>
            <a:ext cx="28954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2760" y="101520"/>
            <a:ext cx="3759120" cy="1397160"/>
          </a:xfrm>
          <a:prstGeom prst="rect">
            <a:avLst/>
          </a:prstGeom>
          <a:solidFill>
            <a:srgbClr val="ffff00"/>
          </a:solidFill>
          <a:ln w="5076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5932440" cy="4113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3416400" y="2730600"/>
            <a:ext cx="5511600" cy="360684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27040" y="61920"/>
            <a:ext cx="3706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lectrost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y of 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s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978440" y="101520"/>
            <a:ext cx="3759120" cy="1397160"/>
          </a:xfrm>
          <a:prstGeom prst="rect">
            <a:avLst/>
          </a:prstGeom>
          <a:solidFill>
            <a:srgbClr val="00ff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984920" y="47520"/>
            <a:ext cx="3706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lectr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y of 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s i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58720" y="1625760"/>
            <a:ext cx="8051760" cy="1041120"/>
          </a:xfrm>
          <a:prstGeom prst="rect">
            <a:avLst/>
          </a:prstGeom>
          <a:solidFill>
            <a:srgbClr val="ffcc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1600200"/>
            <a:ext cx="82296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oppos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charge exist,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Frank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58720" y="3835440"/>
            <a:ext cx="2311560" cy="1549440"/>
          </a:xfrm>
          <a:prstGeom prst="rect">
            <a:avLst/>
          </a:prstGeom>
          <a:solidFill>
            <a:srgbClr val="ff33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04080" y="3857760"/>
            <a:ext cx="2268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Charge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property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971800" y="6324480"/>
            <a:ext cx="6170760" cy="532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124080" y="2743200"/>
            <a:ext cx="30492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8915400" y="2666880"/>
            <a:ext cx="227160" cy="3733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33520" y="-9360"/>
            <a:ext cx="8001000" cy="6715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006640" y="3355920"/>
            <a:ext cx="6045120" cy="885960"/>
          </a:xfrm>
          <a:prstGeom prst="rect">
            <a:avLst/>
          </a:prstGeom>
          <a:solidFill>
            <a:srgbClr val="333399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860280" y="3252960"/>
            <a:ext cx="220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Am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965240" y="3684600"/>
            <a:ext cx="617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device that measures cur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 flipV="1">
            <a:off x="1728720" y="4596480"/>
            <a:ext cx="6426360" cy="1701720"/>
          </a:xfrm>
          <a:prstGeom prst="pie">
            <a:avLst/>
          </a:prstGeom>
          <a:solidFill>
            <a:srgbClr val="ff0033"/>
          </a:solidFill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21400" y="4646520"/>
            <a:ext cx="231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Volt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194920" y="5180040"/>
            <a:ext cx="5513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device that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ectric potential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2560" cy="6705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124920" y="549360"/>
            <a:ext cx="882900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po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wor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 (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wor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harg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8800" spc="-1" strike="noStrike" baseline="12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harg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tim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electric potential difference</a:t>
            </a:r>
            <a:r>
              <a:rPr b="1" lang="en-US" sz="10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1" lang="en-US" sz="8800" spc="-1" strike="noStrike" baseline="12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000" spc="-1" strike="noStrike" baseline="12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cur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ccff"/>
                </a:solidFill>
                <a:latin typeface="Comic Sans MS"/>
              </a:rPr>
              <a:t>Wat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Vo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8800" spc="-1" strike="noStrike" baseline="12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Am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32480" y="533520"/>
            <a:ext cx="893772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alogies of simple circuits are these li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circuit analog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ir flow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ariou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eaching with Analogie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link1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circuit"/>
          <p:cNvPicPr/>
          <p:nvPr/>
        </p:nvPicPr>
        <p:blipFill>
          <a:blip r:embed="rId6"/>
          <a:stretch/>
        </p:blipFill>
        <p:spPr>
          <a:xfrm>
            <a:off x="2971800" y="3276720"/>
            <a:ext cx="3228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"/>
          <p:cNvSpPr/>
          <p:nvPr/>
        </p:nvSpPr>
        <p:spPr>
          <a:xfrm>
            <a:off x="2362320" y="38160"/>
            <a:ext cx="4419360" cy="914400"/>
          </a:xfrm>
          <a:prstGeom prst="ellipse">
            <a:avLst/>
          </a:prstGeom>
          <a:solidFill>
            <a:srgbClr val="009900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213000" y="106200"/>
            <a:ext cx="2718000" cy="70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Serpentine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015920" y="939960"/>
            <a:ext cx="7112160" cy="787320"/>
          </a:xfrm>
          <a:prstGeom prst="rect">
            <a:avLst/>
          </a:prstGeom>
          <a:solidFill>
            <a:srgbClr val="333399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997200" y="1081080"/>
            <a:ext cx="7149600" cy="519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termines the amount of current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44600" y="1778040"/>
            <a:ext cx="8369280" cy="863640"/>
          </a:xfrm>
          <a:prstGeom prst="octagon">
            <a:avLst>
              <a:gd name="adj" fmla="val 29282"/>
            </a:avLst>
          </a:prstGeom>
          <a:solidFill>
            <a:srgbClr val="ff0033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523800" y="1919160"/>
            <a:ext cx="809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the ratio of potential difference to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23960" y="2743200"/>
            <a:ext cx="2781360" cy="1752480"/>
          </a:xfrm>
          <a:prstGeom prst="rect">
            <a:avLst/>
          </a:prstGeom>
          <a:solidFill>
            <a:srgbClr val="808080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968040" y="3124080"/>
            <a:ext cx="63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1673640" y="3124080"/>
            <a:ext cx="576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2506680" y="2666880"/>
            <a:ext cx="631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Comic Sans MS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2438280" y="35812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622240" y="3595680"/>
            <a:ext cx="422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1375920" y="2987640"/>
            <a:ext cx="54154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 uni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sis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Oh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honor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eorg Simon Oh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5" descr=""/>
          <p:cNvPicPr/>
          <p:nvPr/>
        </p:nvPicPr>
        <p:blipFill>
          <a:blip r:embed="rId2"/>
          <a:stretch/>
        </p:blipFill>
        <p:spPr>
          <a:xfrm>
            <a:off x="7162920" y="2819520"/>
            <a:ext cx="1814400" cy="2208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6"/>
          <p:cNvSpPr/>
          <p:nvPr/>
        </p:nvSpPr>
        <p:spPr>
          <a:xfrm>
            <a:off x="835560" y="5119560"/>
            <a:ext cx="74725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erpentine"/>
              </a:rPr>
              <a:t>One Oh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resistance is the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2800" spc="-1" strike="noStrike">
                <a:solidFill>
                  <a:srgbClr val="ffff00"/>
                </a:solidFill>
                <a:latin typeface="Serpentine"/>
              </a:rPr>
              <a:t>one Vol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potential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needed to obtain a current of </a:t>
            </a:r>
            <a:r>
              <a:rPr b="0" lang="en-US" sz="2800" spc="-1" strike="noStrike">
                <a:solidFill>
                  <a:srgbClr val="ffffff"/>
                </a:solidFill>
                <a:latin typeface="Serpentine"/>
              </a:rPr>
              <a:t>one Am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2560" cy="6399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97560" y="669960"/>
            <a:ext cx="89920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erpentine"/>
              </a:rPr>
              <a:t>The resistance of a circuit element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the length of the 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length increases, resistance increases propor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the cross-sectional area of the 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area increases, resistance decreases propor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resistivity of the 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resistivity increases, resistance increases propor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177000" y="-14400"/>
            <a:ext cx="27896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Serpentine"/>
              </a:rPr>
              <a:t>Resis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flipH="1" flipV="1" rot="10800000">
            <a:off x="38160" y="723960"/>
            <a:ext cx="9066240" cy="1447920"/>
          </a:xfrm>
          <a:prstGeom prst="pie">
            <a:avLst/>
          </a:prstGeom>
          <a:solidFill>
            <a:srgbClr val="ff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930600" y="749160"/>
            <a:ext cx="7282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sistivity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of a conductor is equal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istance of a wire 1 cm long and ha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ross-sectional area of 1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768760" y="2387520"/>
            <a:ext cx="3682800" cy="1320840"/>
          </a:xfrm>
          <a:prstGeom prst="rect">
            <a:avLst/>
          </a:prstGeom>
          <a:solidFill>
            <a:srgbClr val="3333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254400" y="2604960"/>
            <a:ext cx="587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820440" y="4052880"/>
            <a:ext cx="533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= resistance, measured in O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027320" y="2604960"/>
            <a:ext cx="533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4572360" y="2425680"/>
            <a:ext cx="602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876240" y="4510080"/>
            <a:ext cx="712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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= resistivity, usually in units of </a:t>
            </a:r>
            <a:r>
              <a:rPr b="1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 baseline="10000">
                <a:solidFill>
                  <a:srgbClr val="ff0033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5181480" y="30337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308200" y="2328840"/>
            <a:ext cx="37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92880" y="4967280"/>
            <a:ext cx="419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 = length, measured in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177880" y="3016080"/>
            <a:ext cx="605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855000" y="5424480"/>
            <a:ext cx="646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= cross-sectional area, measured in cm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0" y="533520"/>
            <a:ext cx="9066240" cy="1600200"/>
          </a:xfrm>
          <a:prstGeom prst="hexagon">
            <a:avLst>
              <a:gd name="adj" fmla="val 141616"/>
              <a:gd name="vf" fmla="val 115470"/>
            </a:avLst>
          </a:prstGeom>
          <a:solidFill>
            <a:srgbClr val="00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357360" y="457200"/>
            <a:ext cx="2525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63840" y="1143000"/>
            <a:ext cx="775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ratio of potential difference to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838080" y="2819520"/>
            <a:ext cx="7315200" cy="1676160"/>
          </a:xfrm>
          <a:prstGeom prst="rect">
            <a:avLst/>
          </a:prstGeom>
          <a:solidFill>
            <a:srgbClr val="99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812600" y="1736640"/>
            <a:ext cx="18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954000" y="2865600"/>
            <a:ext cx="71694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R = V/I is a constan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 a given resistor, the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istor is said to obey Ohm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59200" y="5410080"/>
            <a:ext cx="80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o link to pages describing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r c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46680" y="5410080"/>
            <a:ext cx="5508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mulations of Ohm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04920" y="914400"/>
            <a:ext cx="7162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circuit elements do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ey Ohm’s Law. Resi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get hot, like light bul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heating elements, do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a constant res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sistance generally increases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bjects become h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6553080" y="914400"/>
            <a:ext cx="222588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919960" y="138240"/>
            <a:ext cx="363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erpentine"/>
              </a:rPr>
              <a:t>Resistor Circ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080" y="455760"/>
            <a:ext cx="14774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Serpentine"/>
                <a:hlinkClick r:id="rId1"/>
              </a:rPr>
              <a:t>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01520" y="1092240"/>
            <a:ext cx="8940960" cy="3835440"/>
          </a:xfrm>
          <a:prstGeom prst="rect">
            <a:avLst/>
          </a:prstGeom>
          <a:solidFill>
            <a:srgbClr val="00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32280" y="1108080"/>
            <a:ext cx="6413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total resista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um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parate 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709000" y="2027160"/>
            <a:ext cx="3917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49840" y="2654280"/>
            <a:ext cx="797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00ccff"/>
                </a:solidFill>
                <a:latin typeface="Comic Sans MS"/>
              </a:rPr>
              <a:t>curr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ame through each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931840" y="3166920"/>
            <a:ext cx="3478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14280" y="3846600"/>
            <a:ext cx="836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total potential differe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um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2760840" y="4313160"/>
            <a:ext cx="390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 flipH="1" flipV="1" rot="10800000">
            <a:off x="406440" y="5053680"/>
            <a:ext cx="8254800" cy="1625400"/>
          </a:xfrm>
          <a:prstGeom prst="pie">
            <a:avLst/>
          </a:prstGeom>
          <a:solidFill>
            <a:srgbClr val="9900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515240" y="5126040"/>
            <a:ext cx="61102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In other words, in a series circu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resistance and voltage ad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but current st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4419720" y="0"/>
          <a:ext cx="47228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28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762120" y="1600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762120" y="16002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2590920" y="16002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2743200" y="35053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762120" y="35053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762120" y="281952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4191120" y="28954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4191120" y="16002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133720" y="1066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2438280" y="1066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22860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259092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2944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1743840" y="37800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11544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297720" y="579600"/>
            <a:ext cx="165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Brush Script MT"/>
              </a:rPr>
              <a:t>E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= 12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4906440" y="3656160"/>
            <a:ext cx="1067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ff99ff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4930200" y="4341960"/>
            <a:ext cx="11818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99ff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5096880" y="5027760"/>
            <a:ext cx="10292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4639680" y="960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63968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4639680" y="25606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653760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5026320" y="5789520"/>
            <a:ext cx="10155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7"/>
          <p:cNvGraphicFramePr/>
          <p:nvPr/>
        </p:nvGraphicFramePr>
        <p:xfrm>
          <a:off x="1871640" y="3282840"/>
          <a:ext cx="102384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1640" y="3282840"/>
                    <a:ext cx="10238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28"/>
          <p:cNvGraphicFramePr/>
          <p:nvPr/>
        </p:nvGraphicFramePr>
        <p:xfrm>
          <a:off x="3962520" y="2152800"/>
          <a:ext cx="40140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52800"/>
                    <a:ext cx="401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29"/>
          <p:cNvGraphicFramePr/>
          <p:nvPr/>
        </p:nvGraphicFramePr>
        <p:xfrm>
          <a:off x="533520" y="2076480"/>
          <a:ext cx="40140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076480"/>
                    <a:ext cx="401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30"/>
          <p:cNvSpPr/>
          <p:nvPr/>
        </p:nvSpPr>
        <p:spPr>
          <a:xfrm>
            <a:off x="554688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1"/>
          <p:cNvSpPr/>
          <p:nvPr/>
        </p:nvSpPr>
        <p:spPr>
          <a:xfrm>
            <a:off x="7451640" y="-33480"/>
            <a:ext cx="44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2"/>
          <p:cNvSpPr/>
          <p:nvPr/>
        </p:nvSpPr>
        <p:spPr>
          <a:xfrm>
            <a:off x="8342280" y="-38160"/>
            <a:ext cx="54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3"/>
          <p:cNvSpPr/>
          <p:nvPr/>
        </p:nvSpPr>
        <p:spPr>
          <a:xfrm>
            <a:off x="5486040" y="91296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5486040" y="251316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5486040" y="167472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1523880" y="685800"/>
            <a:ext cx="7543800" cy="762120"/>
          </a:xfrm>
          <a:prstGeom prst="octagon">
            <a:avLst>
              <a:gd name="adj" fmla="val 29282"/>
            </a:avLst>
          </a:prstGeom>
          <a:solidFill>
            <a:srgbClr val="ff99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523880" y="79200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Charged partic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ist in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641960" y="2513160"/>
            <a:ext cx="5811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Black"/>
              </a:rPr>
              <a:t>Electron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1" lang="en-US" sz="3200" spc="-1" strike="noStrike">
                <a:solidFill>
                  <a:srgbClr val="00ffff"/>
                </a:solidFill>
                <a:latin typeface="Arial Black"/>
              </a:rPr>
              <a:t>negati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har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 Black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US" sz="3200" spc="-1" strike="noStrike">
                <a:solidFill>
                  <a:srgbClr val="99ff33"/>
                </a:solidFill>
                <a:latin typeface="Arial Black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har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 Black"/>
              </a:rPr>
              <a:t>neu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ve </a:t>
            </a:r>
            <a:r>
              <a:rPr b="1" lang="en-US" sz="3200" spc="-1" strike="noStrike">
                <a:solidFill>
                  <a:srgbClr val="ff99ff"/>
                </a:solidFill>
                <a:latin typeface="Arial Black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228600" y="5118120"/>
            <a:ext cx="8686800" cy="1054080"/>
          </a:xfrm>
          <a:prstGeom prst="roundRect">
            <a:avLst>
              <a:gd name="adj" fmla="val 1249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03480" y="5105520"/>
            <a:ext cx="863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mall amou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ordinary matter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ncredible amou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subatomic partic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76320" y="380880"/>
          <a:ext cx="15127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15127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4419720" y="0"/>
          <a:ext cx="47228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28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Line 3"/>
          <p:cNvSpPr/>
          <p:nvPr/>
        </p:nvSpPr>
        <p:spPr>
          <a:xfrm>
            <a:off x="762120" y="1600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762120" y="16002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2590920" y="16002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2743200" y="35053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762120" y="35053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762120" y="281952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4191120" y="28954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4191120" y="16002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2133720" y="1066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2438280" y="1066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22860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259092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82944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1743840" y="37800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311544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297720" y="579600"/>
            <a:ext cx="165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Brush Script MT"/>
              </a:rPr>
              <a:t>E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= 12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4906800" y="3656160"/>
            <a:ext cx="21038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ff99ff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 = 15 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4929840" y="4341960"/>
            <a:ext cx="21985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99ff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 = 12 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5096880" y="5027760"/>
            <a:ext cx="2388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=  0.80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4639680" y="960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463968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4639680" y="25606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653760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5025960" y="5789520"/>
            <a:ext cx="22730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9.6 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27"/>
          <p:cNvGraphicFramePr/>
          <p:nvPr/>
        </p:nvGraphicFramePr>
        <p:xfrm>
          <a:off x="1871640" y="3282840"/>
          <a:ext cx="102384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1640" y="3282840"/>
                    <a:ext cx="10238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8"/>
          <p:cNvGraphicFramePr/>
          <p:nvPr/>
        </p:nvGraphicFramePr>
        <p:xfrm>
          <a:off x="3962520" y="2152800"/>
          <a:ext cx="40140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52800"/>
                    <a:ext cx="401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9"/>
          <p:cNvGraphicFramePr/>
          <p:nvPr/>
        </p:nvGraphicFramePr>
        <p:xfrm>
          <a:off x="533520" y="2076480"/>
          <a:ext cx="40140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076480"/>
                    <a:ext cx="401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30"/>
          <p:cNvSpPr/>
          <p:nvPr/>
        </p:nvSpPr>
        <p:spPr>
          <a:xfrm>
            <a:off x="554688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1"/>
          <p:cNvSpPr/>
          <p:nvPr/>
        </p:nvSpPr>
        <p:spPr>
          <a:xfrm>
            <a:off x="7451640" y="-33480"/>
            <a:ext cx="44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8342280" y="-38160"/>
            <a:ext cx="54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3"/>
          <p:cNvSpPr/>
          <p:nvPr/>
        </p:nvSpPr>
        <p:spPr>
          <a:xfrm>
            <a:off x="5486040" y="91296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5486040" y="251316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5486040" y="167472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7238880" y="9907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7238880" y="17064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7238880" y="25448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6471000" y="9907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6471000" y="17064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647748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8223480" y="9907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8223480" y="17064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822348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696240" y="-76320"/>
            <a:ext cx="1773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Serpentine"/>
                <a:hlinkClick r:id="rId1"/>
              </a:rPr>
              <a:t>Parall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520560" y="558720"/>
            <a:ext cx="7950240" cy="4749840"/>
          </a:xfrm>
          <a:prstGeom prst="rect">
            <a:avLst/>
          </a:prstGeom>
          <a:solidFill>
            <a:srgbClr val="ff003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609480" y="547560"/>
            <a:ext cx="78487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 reciprocal of the total resista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m of the reciprocals of the separat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411200" y="1874880"/>
            <a:ext cx="6513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/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1/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1/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1/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93080" y="2406600"/>
            <a:ext cx="7350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total curr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um of the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rough each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1865160" y="3271680"/>
            <a:ext cx="558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711360" y="3747960"/>
            <a:ext cx="7823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ff66"/>
                </a:solidFill>
                <a:latin typeface="Comic Sans MS"/>
              </a:rPr>
              <a:t>potential differe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ame acros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ach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2052720" y="4694400"/>
            <a:ext cx="5186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380880" y="5349960"/>
            <a:ext cx="8534520" cy="13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In other words, in a parallel circui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esistance adds as reciproca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voltage stays the same, and current spl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4419720" y="0"/>
          <a:ext cx="47228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28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3"/>
          <p:cNvSpPr/>
          <p:nvPr/>
        </p:nvSpPr>
        <p:spPr>
          <a:xfrm>
            <a:off x="762120" y="1600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762120" y="16002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2590920" y="160020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1371600" y="25146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7"/>
          <p:cNvSpPr/>
          <p:nvPr/>
        </p:nvSpPr>
        <p:spPr>
          <a:xfrm>
            <a:off x="762120" y="335268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>
            <a:off x="2819520" y="33526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2133720" y="99072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2438280" y="99072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2860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259092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297720" y="579600"/>
            <a:ext cx="165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Brush Script MT"/>
              </a:rPr>
              <a:t>E</a:t>
            </a:r>
            <a:r>
              <a:rPr b="1" lang="en-US" sz="3200" spc="-1" strike="noStrike">
                <a:solidFill>
                  <a:srgbClr val="00ff66"/>
                </a:solidFill>
                <a:latin typeface="Times New Roman"/>
              </a:rPr>
              <a:t> = 12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5025600" y="3656160"/>
            <a:ext cx="1067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ff99ff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5025600" y="4341960"/>
            <a:ext cx="11818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ff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ff66"/>
                </a:solidFill>
                <a:latin typeface="Times New Roman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5149440" y="5027760"/>
            <a:ext cx="10292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4639680" y="960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463968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4639680" y="25606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550908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409080" y="-2376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7392600" y="-23760"/>
            <a:ext cx="457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2895480" y="25146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3657600" y="16002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5"/>
          <p:cNvSpPr/>
          <p:nvPr/>
        </p:nvSpPr>
        <p:spPr>
          <a:xfrm>
            <a:off x="5054760" y="5742000"/>
            <a:ext cx="11300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26"/>
          <p:cNvGraphicFramePr/>
          <p:nvPr/>
        </p:nvGraphicFramePr>
        <p:xfrm>
          <a:off x="1676520" y="2286000"/>
          <a:ext cx="10047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286000"/>
                    <a:ext cx="1004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27"/>
          <p:cNvGraphicFramePr/>
          <p:nvPr/>
        </p:nvGraphicFramePr>
        <p:xfrm>
          <a:off x="1663560" y="3124080"/>
          <a:ext cx="10177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63560" y="3124080"/>
                    <a:ext cx="1017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28"/>
          <p:cNvGraphicFramePr/>
          <p:nvPr/>
        </p:nvGraphicFramePr>
        <p:xfrm>
          <a:off x="1676520" y="3962520"/>
          <a:ext cx="10047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962520"/>
                    <a:ext cx="10047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Line 29"/>
          <p:cNvSpPr/>
          <p:nvPr/>
        </p:nvSpPr>
        <p:spPr>
          <a:xfrm>
            <a:off x="1371600" y="42670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0"/>
          <p:cNvSpPr/>
          <p:nvPr/>
        </p:nvSpPr>
        <p:spPr>
          <a:xfrm>
            <a:off x="1371600" y="25146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1"/>
          <p:cNvSpPr/>
          <p:nvPr/>
        </p:nvSpPr>
        <p:spPr>
          <a:xfrm flipH="1">
            <a:off x="2514600" y="42670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2"/>
          <p:cNvSpPr/>
          <p:nvPr/>
        </p:nvSpPr>
        <p:spPr>
          <a:xfrm>
            <a:off x="2734560" y="4008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3"/>
          <p:cNvSpPr/>
          <p:nvPr/>
        </p:nvSpPr>
        <p:spPr>
          <a:xfrm>
            <a:off x="2514600" y="2514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4"/>
          <p:cNvSpPr/>
          <p:nvPr/>
        </p:nvSpPr>
        <p:spPr>
          <a:xfrm>
            <a:off x="2514600" y="3352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5"/>
          <p:cNvSpPr/>
          <p:nvPr/>
        </p:nvSpPr>
        <p:spPr>
          <a:xfrm>
            <a:off x="2582280" y="2103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6"/>
          <p:cNvSpPr/>
          <p:nvPr/>
        </p:nvSpPr>
        <p:spPr>
          <a:xfrm>
            <a:off x="2658240" y="30178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8342280" y="-57240"/>
            <a:ext cx="54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8"/>
          <p:cNvSpPr/>
          <p:nvPr/>
        </p:nvSpPr>
        <p:spPr>
          <a:xfrm>
            <a:off x="5498640" y="91296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9"/>
          <p:cNvSpPr/>
          <p:nvPr/>
        </p:nvSpPr>
        <p:spPr>
          <a:xfrm>
            <a:off x="5492520" y="167472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0"/>
          <p:cNvSpPr/>
          <p:nvPr/>
        </p:nvSpPr>
        <p:spPr>
          <a:xfrm>
            <a:off x="5522400" y="251316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Object 2"/>
          <p:cNvGraphicFramePr/>
          <p:nvPr/>
        </p:nvGraphicFramePr>
        <p:xfrm>
          <a:off x="4419720" y="0"/>
          <a:ext cx="47228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28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Line 3"/>
          <p:cNvSpPr/>
          <p:nvPr/>
        </p:nvSpPr>
        <p:spPr>
          <a:xfrm>
            <a:off x="762120" y="1600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"/>
          <p:cNvSpPr/>
          <p:nvPr/>
        </p:nvSpPr>
        <p:spPr>
          <a:xfrm>
            <a:off x="762120" y="16002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"/>
          <p:cNvSpPr/>
          <p:nvPr/>
        </p:nvSpPr>
        <p:spPr>
          <a:xfrm>
            <a:off x="2590920" y="160020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>
            <a:off x="1371600" y="25146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762120" y="335268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2819520" y="33526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2133720" y="99072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0"/>
          <p:cNvSpPr/>
          <p:nvPr/>
        </p:nvSpPr>
        <p:spPr>
          <a:xfrm>
            <a:off x="2438280" y="99072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1"/>
          <p:cNvSpPr/>
          <p:nvPr/>
        </p:nvSpPr>
        <p:spPr>
          <a:xfrm>
            <a:off x="22860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259092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297720" y="579600"/>
            <a:ext cx="165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Brush Script MT"/>
              </a:rPr>
              <a:t>E</a:t>
            </a:r>
            <a:r>
              <a:rPr b="1" lang="en-US" sz="3200" spc="-1" strike="noStrike">
                <a:solidFill>
                  <a:srgbClr val="00ff66"/>
                </a:solidFill>
                <a:latin typeface="Times New Roman"/>
              </a:rPr>
              <a:t> = 12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5025600" y="3656160"/>
            <a:ext cx="24469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ff99ff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 = 3.42 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5025240" y="4341960"/>
            <a:ext cx="21985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ff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ff66"/>
                </a:solidFill>
                <a:latin typeface="Times New Roman"/>
              </a:rPr>
              <a:t> = 12 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5149440" y="5027760"/>
            <a:ext cx="2388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=  3.50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4639680" y="960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463968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4639680" y="25606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550908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6409080" y="-2376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2"/>
          <p:cNvSpPr/>
          <p:nvPr/>
        </p:nvSpPr>
        <p:spPr>
          <a:xfrm>
            <a:off x="7392600" y="-23760"/>
            <a:ext cx="457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3"/>
          <p:cNvSpPr/>
          <p:nvPr/>
        </p:nvSpPr>
        <p:spPr>
          <a:xfrm>
            <a:off x="2895480" y="25146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4"/>
          <p:cNvSpPr/>
          <p:nvPr/>
        </p:nvSpPr>
        <p:spPr>
          <a:xfrm>
            <a:off x="3657600" y="16002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5"/>
          <p:cNvSpPr/>
          <p:nvPr/>
        </p:nvSpPr>
        <p:spPr>
          <a:xfrm>
            <a:off x="5054760" y="5742000"/>
            <a:ext cx="21585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42 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26"/>
          <p:cNvGraphicFramePr/>
          <p:nvPr/>
        </p:nvGraphicFramePr>
        <p:xfrm>
          <a:off x="1676520" y="2286000"/>
          <a:ext cx="10047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286000"/>
                    <a:ext cx="1004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7"/>
          <p:cNvGraphicFramePr/>
          <p:nvPr/>
        </p:nvGraphicFramePr>
        <p:xfrm>
          <a:off x="1663560" y="3124080"/>
          <a:ext cx="10177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63560" y="3124080"/>
                    <a:ext cx="1017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8"/>
          <p:cNvGraphicFramePr/>
          <p:nvPr/>
        </p:nvGraphicFramePr>
        <p:xfrm>
          <a:off x="1676520" y="3962520"/>
          <a:ext cx="10047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962520"/>
                    <a:ext cx="10047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Line 29"/>
          <p:cNvSpPr/>
          <p:nvPr/>
        </p:nvSpPr>
        <p:spPr>
          <a:xfrm>
            <a:off x="1371600" y="42670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0"/>
          <p:cNvSpPr/>
          <p:nvPr/>
        </p:nvSpPr>
        <p:spPr>
          <a:xfrm>
            <a:off x="1371600" y="25146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1"/>
          <p:cNvSpPr/>
          <p:nvPr/>
        </p:nvSpPr>
        <p:spPr>
          <a:xfrm flipH="1">
            <a:off x="2514600" y="42670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2"/>
          <p:cNvSpPr/>
          <p:nvPr/>
        </p:nvSpPr>
        <p:spPr>
          <a:xfrm>
            <a:off x="2734560" y="4008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3"/>
          <p:cNvSpPr/>
          <p:nvPr/>
        </p:nvSpPr>
        <p:spPr>
          <a:xfrm>
            <a:off x="2514600" y="2514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4"/>
          <p:cNvSpPr/>
          <p:nvPr/>
        </p:nvSpPr>
        <p:spPr>
          <a:xfrm>
            <a:off x="2514600" y="3352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5"/>
          <p:cNvSpPr/>
          <p:nvPr/>
        </p:nvSpPr>
        <p:spPr>
          <a:xfrm>
            <a:off x="2582280" y="2103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6"/>
          <p:cNvSpPr/>
          <p:nvPr/>
        </p:nvSpPr>
        <p:spPr>
          <a:xfrm>
            <a:off x="2658240" y="30178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7"/>
          <p:cNvSpPr/>
          <p:nvPr/>
        </p:nvSpPr>
        <p:spPr>
          <a:xfrm>
            <a:off x="8342280" y="-57240"/>
            <a:ext cx="54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8"/>
          <p:cNvSpPr/>
          <p:nvPr/>
        </p:nvSpPr>
        <p:spPr>
          <a:xfrm>
            <a:off x="5498640" y="91296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9"/>
          <p:cNvSpPr/>
          <p:nvPr/>
        </p:nvSpPr>
        <p:spPr>
          <a:xfrm>
            <a:off x="5486040" y="167472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0"/>
          <p:cNvSpPr/>
          <p:nvPr/>
        </p:nvSpPr>
        <p:spPr>
          <a:xfrm>
            <a:off x="5522400" y="251316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6402600" y="914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402600" y="1676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3"/>
          <p:cNvSpPr/>
          <p:nvPr/>
        </p:nvSpPr>
        <p:spPr>
          <a:xfrm>
            <a:off x="6402600" y="2482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4"/>
          <p:cNvSpPr/>
          <p:nvPr/>
        </p:nvSpPr>
        <p:spPr>
          <a:xfrm>
            <a:off x="7316640" y="9144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5"/>
          <p:cNvSpPr/>
          <p:nvPr/>
        </p:nvSpPr>
        <p:spPr>
          <a:xfrm>
            <a:off x="7316640" y="16444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6"/>
          <p:cNvSpPr/>
          <p:nvPr/>
        </p:nvSpPr>
        <p:spPr>
          <a:xfrm>
            <a:off x="7316640" y="24829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7"/>
          <p:cNvSpPr/>
          <p:nvPr/>
        </p:nvSpPr>
        <p:spPr>
          <a:xfrm>
            <a:off x="8275680" y="914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8"/>
          <p:cNvSpPr/>
          <p:nvPr/>
        </p:nvSpPr>
        <p:spPr>
          <a:xfrm>
            <a:off x="8231400" y="2482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9"/>
          <p:cNvSpPr/>
          <p:nvPr/>
        </p:nvSpPr>
        <p:spPr>
          <a:xfrm>
            <a:off x="8231400" y="1676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716040" y="3997440"/>
            <a:ext cx="780408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Go to 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link1</a:t>
            </a: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, 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link2</a:t>
            </a: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, link3, link4, link5, and link6 to 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pages and simulations examin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Kirchhoff’s Loop and Junction R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68200" y="260280"/>
            <a:ext cx="856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irchhoff’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op Ru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um of the potenti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round any closed circuit loop i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Junction Ru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um of the cur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to any circuit junction is zer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52280" y="7272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ite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e allow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build and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own ser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llel, and/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bination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a complete interactive tutorial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ricity and magnetism, go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ohmzone"/>
          <p:cNvPicPr/>
          <p:nvPr/>
        </p:nvPicPr>
        <p:blipFill>
          <a:blip r:embed="rId1"/>
          <a:stretch/>
        </p:blipFill>
        <p:spPr>
          <a:xfrm>
            <a:off x="4267080" y="533520"/>
            <a:ext cx="425304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90440" y="266760"/>
            <a:ext cx="8839440" cy="990720"/>
          </a:xfrm>
          <a:prstGeom prst="rect">
            <a:avLst/>
          </a:prstGeom>
          <a:solidFill>
            <a:srgbClr val="ff33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91080" y="274680"/>
            <a:ext cx="9068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erpentine"/>
              </a:rPr>
              <a:t>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 that allows charges to move about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8160" y="1714680"/>
            <a:ext cx="9066240" cy="990360"/>
          </a:xfrm>
          <a:prstGeom prst="rect">
            <a:avLst/>
          </a:prstGeom>
          <a:solidFill>
            <a:srgbClr val="009900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-200520" y="1722600"/>
            <a:ext cx="9516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erpentine"/>
              </a:rPr>
              <a:t>Ins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 through which charges will not easily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476720" y="3427560"/>
            <a:ext cx="6402960" cy="702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Serpentine"/>
              </a:rPr>
              <a:t>Basic Law of Electrost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42000" y="4191120"/>
            <a:ext cx="8622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ke charges repel; unlike charges at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u8l1c1"/>
          <p:cNvPicPr/>
          <p:nvPr/>
        </p:nvPicPr>
        <p:blipFill>
          <a:blip r:embed="rId1"/>
          <a:stretch/>
        </p:blipFill>
        <p:spPr>
          <a:xfrm>
            <a:off x="2133720" y="4952880"/>
            <a:ext cx="4952880" cy="1582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790920" y="54864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123600" y="3808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6123600" y="18432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23160" y="1752480"/>
            <a:ext cx="369360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view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mulation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havior of pith 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the vicin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rged r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e a movi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615pithballs"/>
          <p:cNvPicPr/>
          <p:nvPr/>
        </p:nvPicPr>
        <p:blipFill>
          <a:blip r:embed="rId3"/>
          <a:stretch/>
        </p:blipFill>
        <p:spPr>
          <a:xfrm>
            <a:off x="5257800" y="990720"/>
            <a:ext cx="331488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57200" y="563400"/>
            <a:ext cx="853452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o read about charging objects by fri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View a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f charging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balloon by rubb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t on your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and then st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t to a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wal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hocking"/>
          <p:cNvPicPr/>
          <p:nvPr/>
        </p:nvPicPr>
        <p:blipFill>
          <a:blip r:embed="rId3"/>
          <a:stretch/>
        </p:blipFill>
        <p:spPr>
          <a:xfrm>
            <a:off x="4952880" y="1676520"/>
            <a:ext cx="35323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977760" y="330120"/>
            <a:ext cx="7302600" cy="1549440"/>
          </a:xfrm>
          <a:prstGeom prst="octagon">
            <a:avLst>
              <a:gd name="adj" fmla="val 29282"/>
            </a:avLst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flipV="1">
            <a:off x="25560" y="2386440"/>
            <a:ext cx="9016920" cy="1701720"/>
          </a:xfrm>
          <a:prstGeom prst="pie">
            <a:avLst/>
          </a:prstGeom>
          <a:solidFill>
            <a:srgbClr val="00ffff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452240" y="304920"/>
            <a:ext cx="6273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ing a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ro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elect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positive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neg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condu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 flipH="1" flipV="1" rot="10800000">
            <a:off x="43200" y="4723200"/>
            <a:ext cx="9053640" cy="1854360"/>
          </a:xfrm>
          <a:prstGeom prst="pie">
            <a:avLst/>
          </a:prstGeom>
          <a:solidFill>
            <a:srgbClr val="00ffff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67720" y="2743200"/>
            <a:ext cx="800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charging by </a:t>
            </a: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condu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d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touch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electro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lectroscope gets 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ame charg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the r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97400" y="4800600"/>
            <a:ext cx="75474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charging by </a:t>
            </a: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indu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tou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lectroscope. The electroscope 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pposite charg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r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3089160" y="6191280"/>
            <a:ext cx="2967120" cy="28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2701800" y="2514600"/>
            <a:ext cx="3741840" cy="2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54520" y="228600"/>
            <a:ext cx="690012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to view simulations of char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an electroscope. Read mor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er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onduction"/>
          <p:cNvPicPr/>
          <p:nvPr/>
        </p:nvPicPr>
        <p:blipFill>
          <a:blip r:embed="rId6"/>
          <a:stretch/>
        </p:blipFill>
        <p:spPr>
          <a:xfrm>
            <a:off x="609480" y="2209680"/>
            <a:ext cx="4572000" cy="16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nduction"/>
          <p:cNvPicPr/>
          <p:nvPr/>
        </p:nvPicPr>
        <p:blipFill>
          <a:blip r:embed="rId7"/>
          <a:stretch/>
        </p:blipFill>
        <p:spPr>
          <a:xfrm>
            <a:off x="2590920" y="4343400"/>
            <a:ext cx="61912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787480" y="60480"/>
            <a:ext cx="4284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OULOMB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3520" y="711360"/>
            <a:ext cx="8153280" cy="1854000"/>
          </a:xfrm>
          <a:prstGeom prst="rect">
            <a:avLst/>
          </a:prstGeom>
          <a:solidFill>
            <a:srgbClr val="ff3300"/>
          </a:solidFill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90400" y="776160"/>
            <a:ext cx="793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force between two charged objec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rectly proportional to the product of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arges and inversely proportional to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paration distance squ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04720" y="2660760"/>
            <a:ext cx="8258400" cy="4195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04920" y="5791320"/>
            <a:ext cx="8686800" cy="106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ink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link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ink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07960" y="2717640"/>
            <a:ext cx="8204400" cy="3022920"/>
          </a:xfrm>
          <a:prstGeom prst="rect">
            <a:avLst/>
          </a:prstGeom>
          <a:noFill/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4:24:56Z</dcterms:created>
  <dc:creator>Joel A. Bryan</dc:creator>
  <dc:description/>
  <dc:language>en-US</dc:language>
  <cp:lastModifiedBy>jluckey</cp:lastModifiedBy>
  <dcterms:modified xsi:type="dcterms:W3CDTF">2011-01-23T19:35:58Z</dcterms:modified>
  <cp:revision>25</cp:revision>
  <dc:subject/>
  <dc:title>Slide 1</dc:title>
</cp:coreProperties>
</file>